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D09E-6621-4088-B145-8A10FC779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50EE-B080-4964-ADC2-EEC73267B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5-</a:t>
            </a:r>
            <a:fld id="{13A21A08-0CE7-405D-9C8D-FEF9BCA5051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81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: Joint Products and By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Products and Byprodu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8440" y="1323720"/>
            <a:ext cx="845028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are products which constitute the major portion of the total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are products with low sales values compared to the main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are outputs with minimal sales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lassifications can change over time especially when market prices change dramatically from year to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llocating joint costs to byproducts ei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production is comple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of s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9 - 58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52578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 in Joint Proces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costs are costs which yield multiple products simultaneous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lit-off point is the juncture in the process when separate identifiable products emer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ble costs are costs incurred beyond the split-off point and are assignable to separat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753080"/>
            <a:ext cx="121896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419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4419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267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5867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562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5562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5410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7242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76520" y="3762360"/>
            <a:ext cx="1218960" cy="1419120"/>
            <a:chOff x="1676520" y="3762360"/>
            <a:chExt cx="1218960" cy="1419120"/>
          </a:xfrm>
        </p:grpSpPr>
        <p:sp>
          <p:nvSpPr>
            <p:cNvPr id="64" name=""/>
            <p:cNvSpPr/>
            <p:nvPr/>
          </p:nvSpPr>
          <p:spPr>
            <a:xfrm>
              <a:off x="1676520" y="3762360"/>
              <a:ext cx="1218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plit-of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0" y="4648320"/>
              <a:ext cx="0" cy="53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5486400"/>
            <a:ext cx="5486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, Byproducts and Scra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products have a relatively high sales value and are not separately identifiable as individual products until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 is the one with the highest sales value resulting from a process yielding two or mor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have a low sales value relative to sales value of the main or joint products 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products have a minimal (often zero)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2670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572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produc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63868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56386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 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8672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al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1629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765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Allocate Joint Cost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for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sting and cost of goods sold calcu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imbursement under contra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profitability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surance settlement comput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regulation situ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4920" y="4191120"/>
            <a:ext cx="8297640" cy="2028600"/>
            <a:chOff x="304920" y="4191120"/>
            <a:chExt cx="8297640" cy="2028600"/>
          </a:xfrm>
        </p:grpSpPr>
        <p:sp>
          <p:nvSpPr>
            <p:cNvPr id="82" name=""/>
            <p:cNvSpPr/>
            <p:nvPr/>
          </p:nvSpPr>
          <p:spPr>
            <a:xfrm>
              <a:off x="4343400" y="48006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4191120"/>
              <a:ext cx="8297640" cy="20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9"/>
                </a:spcBef>
                <a:buClr>
                  <a:srgbClr val="fafd00"/>
                </a:buClr>
                <a:buFont typeface="Arial"/>
                <a:buChar char="•"/>
                <a:tabLst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ales value at split-off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6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4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571500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alue at Splitoff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297180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value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0 - 5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8386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33520"/>
            <a:ext cx="1371600" cy="96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000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$2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3143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$3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050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386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12189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28760"/>
            <a:ext cx="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Measure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895480" cy="27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proportions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1 - 5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94336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409840"/>
            <a:ext cx="137160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76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2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19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7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10080" y="2409840"/>
            <a:ext cx="6858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943360"/>
            <a:ext cx="68580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1143000"/>
            <a:ext cx="1219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33352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12840" y="4419720"/>
            <a:ext cx="8297640" cy="1752480"/>
            <a:chOff x="312840" y="4419720"/>
            <a:chExt cx="8297640" cy="1752480"/>
          </a:xfrm>
        </p:grpSpPr>
        <p:sp>
          <p:nvSpPr>
            <p:cNvPr id="110" name=""/>
            <p:cNvSpPr/>
            <p:nvPr/>
          </p:nvSpPr>
          <p:spPr>
            <a:xfrm>
              <a:off x="312840" y="4419720"/>
              <a:ext cx="82976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Physical measure 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487692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llocate joint costs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 products based on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heir  estimated final selling prices less separable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cessing cos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2590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8128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 Realizable Value (NRV)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3 - 57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1240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71476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30508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62320" y="2590560"/>
            <a:ext cx="38088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24080"/>
            <a:ext cx="380880" cy="4860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686040"/>
            <a:ext cx="1218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2004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27672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228600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124080"/>
            <a:ext cx="22860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133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1240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" y="4191120"/>
            <a:ext cx="8458200" cy="2133360"/>
            <a:chOff x="228600" y="4191120"/>
            <a:chExt cx="8458200" cy="2133360"/>
          </a:xfrm>
        </p:grpSpPr>
        <p:sp>
          <p:nvSpPr>
            <p:cNvPr id="133" name=""/>
            <p:cNvSpPr/>
            <p:nvPr/>
          </p:nvSpPr>
          <p:spPr>
            <a:xfrm>
              <a:off x="228600" y="4191120"/>
              <a:ext cx="8458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Final sales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1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6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parable processing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Net realizable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7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72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Joint cost allocat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1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9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45720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380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0968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and 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1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@ 25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mputed total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52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8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ed joint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 9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30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Gross Margin % NRV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88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so that the gross margin % for each product is the sa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4 - 5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971800"/>
            <a:ext cx="39625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0292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57150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3657600"/>
            <a:ext cx="5335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1457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relevance of Joint Co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8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ether to sell a product at the split-off point or process further, ignore join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74320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733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3526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86704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45736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743200"/>
            <a:ext cx="380880" cy="5810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324240"/>
            <a:ext cx="380880" cy="4856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121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133360" y="2819520"/>
            <a:ext cx="152280" cy="4572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342900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243828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76720"/>
            <a:ext cx="22860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276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2096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8 - 57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4648320"/>
            <a:ext cx="8305920" cy="1495440"/>
            <a:chOff x="380880" y="4648320"/>
            <a:chExt cx="8305920" cy="1495440"/>
          </a:xfrm>
        </p:grpSpPr>
        <p:sp>
          <p:nvSpPr>
            <p:cNvPr id="168" name=""/>
            <p:cNvSpPr/>
            <p:nvPr/>
          </p:nvSpPr>
          <p:spPr>
            <a:xfrm>
              <a:off x="380880" y="4648320"/>
              <a:ext cx="830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ctr" pos="4560840"/>
                  <a:tab algn="ctr" pos="704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 versus Butter 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ll @ Split-off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ocess Furth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5181480"/>
              <a:ext cx="80773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reven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Incremental operating incom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32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00760"/>
              <a:ext cx="8001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23:20:52Z</dcterms:created>
  <dc:creator>User</dc:creator>
  <dc:description/>
  <dc:language>en-US</dc:language>
  <cp:lastModifiedBy>John Moore</cp:lastModifiedBy>
  <cp:lastPrinted>1999-06-05T01:59:28Z</cp:lastPrinted>
  <dcterms:modified xsi:type="dcterms:W3CDTF">2003-03-22T13:20:44Z</dcterms:modified>
  <cp:revision>19</cp:revision>
  <dc:subject/>
  <dc:title>Joint Products and Byproducts</dc:title>
</cp:coreProperties>
</file>